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F73-93DF-4797-BB9A-72683CFD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4FD-72E2-4309-AB2C-678BB197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1D4-E56A-41ED-AA79-ED1AB370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C6C-BA17-419D-93AE-FE53810E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9CCF-150E-4480-B668-B9B22C3A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79DF-112E-4C6E-8431-AD721830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C297-5EC7-41E8-8363-CC405B9C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AEAB-613D-4A7C-81F2-572C97E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E917-790F-420E-A9FA-929C3258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C9A9-AEFE-45B1-8014-0965A80A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9980-7818-4964-9E41-061C9969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99D-3239-41C9-BBF2-49F44751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CD13-D053-4756-A661-2CC83265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1DE7-DB4A-40FD-8BF7-BB635D66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BC11-0F32-4CBE-842B-F94C782F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6DE6-8FF0-4E71-86B5-1A4EFF5F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7E8B-E47D-45C1-8068-340CC769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6B9-8290-4C4D-B368-6F024898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A9C-9926-460B-B177-F1CD020E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6CE-7E7B-4AEB-90E5-B32EB02E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E4F-0E91-4652-B3E7-4D1AAB25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F97-C788-4E10-B9C9-8D2742A4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561-9CF9-467F-9AFC-38E4EE11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0AA-E7B8-4A64-BF94-C3553F52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B534-DDE5-4562-B154-7AEEDFC27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DAB-D70D-46C5-A5DA-F364BC6DF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mic Sans MS"/>
              </a:rPr>
              <a:t>LEA:  Language Experience Approach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. Kristen Pennycuff T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Turn:  Create an LEA for your third grade students who have just returned from a field trip to the fire station.  Remember to include all the step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ting in a common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ssing the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perative writing of the story on a chart, board, or comp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ting in extension activities related to the 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igsaw the sample lesson plan for LE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 te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t te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t-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sure-Assessment and Evalu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lemental Activities-Reflection of the Candi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 interrelates the different language arts and uses the children’s experiences as the basis for reading materi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children have experiences that can be converted to sto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crete experiences can be provided to help create the s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ries developed by childre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tivat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e meaningful  because language of the children us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ffectively used for ELL children: provides material they can understa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ipating in a common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ing the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ve writing of the story on a chart, board, or compu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ipating in extension activities related to the st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anguage Experience Approach LE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04920" y="1371600"/>
            <a:ext cx="815328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see transformation of oral language to print including directionality, spacing between words, meanings, punctuation, and capital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see relationships between reading and their oral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 observations during dictation and reading provide diagnostic insights into children’s reading difficul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 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riety of modes of learning offers something to all child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ditory: dictation or read alou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nesthetic: writing the s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ual: reading s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motes good self-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they have to say is important enough to write down and others interes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motes close contact between teacher and stud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dial older learners and ELL consider this reading more authentic than some of the remedial material exposed to in classro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llent way to provide variety of programs that are need to teach rea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ation in Kindergart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e oral language can be recorded and reconstruct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writing—choose topics, discussion, drawing, and dramatic play before writing, drafts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of vocabulary, decoding, and comprehension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w-and-tell writing—invented spel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guage Experience Approach-LE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28600" y="1066680"/>
            <a:ext cx="86104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in the Primary Grad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ticipating in a common experi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cussing the experi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operative writing of the story on a chart, board, or a compu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ticipation in extension activities related to the st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reading st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ding wor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ching sentences with sentence stri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Word bank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—word cards containing words a child has used in stor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718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d for sight vocabulary, word recognition skills, and develop comprehension skil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ing of Computer-generated stor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llustration of stor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ing of stor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eation of book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guage Experience Approach-LE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04920" y="1295280"/>
            <a:ext cx="853416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in Higher Grad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ent area instructio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ing the result of scientific experi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aring and contrasting people, things, or ev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ing directions for performing a 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-generation importa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ter stories easily, ease of revision without recopy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rect teaching of story structure during LEA helpful to older remedial learn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de revision and editing as natural extens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ipating in a common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ing the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ve writing of the story on a chart, board, or compu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ipating in extension activities related to the st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1:12:06Z</dcterms:created>
  <dc:creator>Shane  Trent</dc:creator>
  <dc:description/>
  <dc:language>en-US</dc:language>
  <cp:lastModifiedBy>Trent Family</cp:lastModifiedBy>
  <cp:lastPrinted>2010-09-10T15:39:49Z</cp:lastPrinted>
  <dcterms:modified xsi:type="dcterms:W3CDTF">2010-10-28T13:37:11Z</dcterms:modified>
  <cp:revision>54</cp:revision>
  <dc:subject/>
  <dc:title>Major Approaches and Materials for Reading Instruction</dc:title>
</cp:coreProperties>
</file>